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7337-4E72-4320-85E6-DA6A62A9A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B4C6-D6AB-45F9-B5DD-85DC9BD7F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8031-B46D-4489-9FBE-B9BD04BCE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BFCE-D7D8-4AA3-9143-81DF8210D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B95E-8206-4107-9059-0A927E9D3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0099-8452-4193-8025-8AB01BD7C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9B32-E1E6-4A40-A1FA-3E141690A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709A-51E8-4C3B-A28A-638D2AE51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C4E92-938D-4833-8BD1-CA800D57A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91B4D-9BA1-4EC8-A233-144ADAF33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7059E-055E-4F97-8F49-E1FD4C84D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E1102-B428-40E9-B6EE-B4B0AA2FE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F84E9-2811-4AD6-A312-5F984EED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89018-FB1E-4B65-A72B-C3CE86EB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85AC0-809D-4FB6-9F05-FC50FAA6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F5971-C9CE-4823-8872-B17473DA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AB95C-AFDA-4B03-A66A-EE411CD7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7180F-AA99-47D5-8656-24AE1A2E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4E30D-7D73-4C38-8C90-EB3898A0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FDE2-5D3F-45B7-B478-EFC5DF788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36475-4B74-4996-A2DF-55134FC6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7EEB9-79D9-4026-9DA7-7714D7E2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DCB35-27EE-4A9E-884E-442DC00A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D344C-6C28-4DF3-826A-6767F603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A1139-53CE-4937-BA0E-9D1D4F31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7E870-8B3B-4383-A118-D2A31A115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8A564-720A-4B4D-A376-AC2F8DA7B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E6246-C0B4-4735-9DA2-1CEFDDD28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2C944-4901-4776-874C-52557C9BD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A9810-7E6B-46F6-9073-688210548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76815-786F-4E78-BDA4-FE8636E62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CD60-0F7C-47C3-8337-014A9A7BD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08D6-BE70-4384-8C02-79D0B6D731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A03F-AD71-49F1-BC37-A0F6FACB7D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9342-4FDA-46FC-8C8E-70B7C44677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8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0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" name="Rectangle 1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6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7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8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9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0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21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Aides visue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2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DD52-54A5-445F-9E97-2F20BD99DC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visual_sop"/>
          <p:cNvPicPr/>
          <p:nvPr/>
        </p:nvPicPr>
        <p:blipFill>
          <a:blip r:embed="rId1"/>
          <a:srcRect l="51824" t="0" r="0" b="0"/>
          <a:stretch/>
        </p:blipFill>
        <p:spPr>
          <a:xfrm>
            <a:off x="4724280" y="946080"/>
            <a:ext cx="4025880" cy="4965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33520" y="1549440"/>
            <a:ext cx="3886200" cy="39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Une image vaut 1000 mots 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ser aux </a:t>
            </a:r>
            <a:r>
              <a:rPr b="0" lang="fr-FR" sz="2800" spc="-1" strike="noStrike">
                <a:solidFill>
                  <a:srgbClr val="9999ff"/>
                </a:solidFill>
                <a:latin typeface="Arial"/>
              </a:rPr>
              <a:t>aides visuel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fin d’aider à renforcer la conformité aux nouvelles procé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5"/>
          <p:cNvSpPr/>
          <p:nvPr/>
        </p:nvSpPr>
        <p:spPr>
          <a:xfrm>
            <a:off x="6781680" y="213372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’assurer que l’étiquet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st juste en dessous du capuc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6781680" y="2819520"/>
            <a:ext cx="2362320" cy="100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est presque droite, a un code bar propre et aucun surplus ne dépasse le tour du tu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6781680" y="461160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ne s’étend pas jusqu’à l’extrémité inférieur du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4952880" y="5667480"/>
            <a:ext cx="236232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iquette corr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10DD-EC60-4A17-AD3E-76FB43492F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specimen_visual_aid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71604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ide visuelle permettant de déterminer le volume suffisant de sé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9000" y="1295280"/>
            <a:ext cx="5715000" cy="50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mesure visuelle, afin de déterminer si le spécimen est au dessous de la limite de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nir le spécimen contre la carte visuelle de me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igner le gel séparateur a la ligne du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utilisant la ligne du haut, déterminer s’il y a plus ou moins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8"/>
          <p:cNvSpPr/>
          <p:nvPr/>
        </p:nvSpPr>
        <p:spPr>
          <a:xfrm>
            <a:off x="1981080" y="358128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9D9B-0E83-4140-A3EC-4D20D7F15D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sample_management_1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" y="1523880"/>
            <a:ext cx="3429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’il y a 2,5 cm ou plus de séru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191120" y="1371600"/>
            <a:ext cx="4724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mballer le spécimen et le transporter comme d’hab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9"/>
          <p:cNvSpPr/>
          <p:nvPr/>
        </p:nvSpPr>
        <p:spPr>
          <a:xfrm>
            <a:off x="3505320" y="3882960"/>
            <a:ext cx="83808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4A69-C6C1-4452-96D6-778347031F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4" descr="sample_management_acceptability_2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1447920"/>
            <a:ext cx="4038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is, s’il y a moins de 2,5 cm de sé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038480" y="1219320"/>
            <a:ext cx="51055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quer le haut du tube avec un X et emballer le spécimen dans une boîte priori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3124080" y="388296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484A-ED2A-4345-8191-A6B49E1D2C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5_finger_prick_job_aid"/>
          <p:cNvPicPr/>
          <p:nvPr/>
        </p:nvPicPr>
        <p:blipFill>
          <a:blip r:embed="rId1"/>
          <a:stretch/>
        </p:blipFill>
        <p:spPr>
          <a:xfrm>
            <a:off x="1781280" y="0"/>
            <a:ext cx="5236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22C5-6674-4822-8350-1BA33F2000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5_venipuncture_cdc_who"/>
          <p:cNvPicPr/>
          <p:nvPr/>
        </p:nvPicPr>
        <p:blipFill>
          <a:blip r:embed="rId1"/>
          <a:stretch/>
        </p:blipFill>
        <p:spPr>
          <a:xfrm>
            <a:off x="1733400" y="0"/>
            <a:ext cx="52898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dolmazonv</cp:lastModifiedBy>
  <dcterms:modified xsi:type="dcterms:W3CDTF">2010-04-08T14:53:07Z</dcterms:modified>
  <cp:revision>9</cp:revision>
  <dc:subject/>
  <dc:title>Quality Manual Structure and Contents</dc:title>
</cp:coreProperties>
</file>